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E57-D463-4918-BAFC-DDCC969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3A3-D430-43E1-89F8-4BB3C37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90C-675F-4649-8688-27D86CC7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848-F0A0-4EAA-B4A8-89A8F927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8D7-7A5E-43C2-9A71-1863578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1A8-3E08-4446-B16C-3A78247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E82-A382-4E3E-8F11-01B67F0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140-D728-439D-B0A1-890E2E9C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7B2-1FDE-4A44-8DD7-DC82266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E65-5C92-4FB2-9048-91687ED9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D4A-231C-4CA2-8BC8-C63B3CF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ACE-AF26-40EF-8987-CDDB060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E36-0B8D-4B55-B6B5-4CEEC802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ent Sustained reading done in conjunction with a modified AR program, can increase reading comprehension and the love of read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3505320"/>
            <a:ext cx="35049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s surve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surve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read for f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only read if it is assigned for a gra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never rea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 for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Ba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Partially Pro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Pro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Advan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ot most of what was rea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ed some of the tex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tell the main idea and many detai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tell the main idea and very complete detai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Rubric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for Oral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fast or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loud or 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with p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expre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19720" y="1371600"/>
          <a:ext cx="4266720" cy="4754160"/>
        </p:xfrm>
        <a:graphic>
          <a:graphicData uri="http://schemas.openxmlformats.org/drawingml/2006/table">
            <a:tbl>
              <a:tblPr/>
              <a:tblGrid>
                <a:gridCol w="1066320"/>
                <a:gridCol w="1067040"/>
                <a:gridCol w="1066680"/>
                <a:gridCol w="10666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of oral fluency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73040" y="1611360"/>
          <a:ext cx="81946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11360"/>
                    <a:ext cx="81946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silent sustained reading in a class period at the start of class, several times a week. Everyone would read, including myself. Students would also do a modified AR program, where they did projects, as well as the computer generated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52:57Z</dcterms:created>
  <dc:creator>student</dc:creator>
  <dc:description/>
  <dc:language>en-US</dc:language>
  <cp:lastModifiedBy>student</cp:lastModifiedBy>
  <dcterms:modified xsi:type="dcterms:W3CDTF">2011-01-25T20:38:00Z</dcterms:modified>
  <cp:revision>5</cp:revision>
  <dc:subject/>
  <dc:title>  Silent Sustained reading done in conjunction with a modified AR program, can increase reading comprehension, and the love of reading.</dc:title>
</cp:coreProperties>
</file>